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63640" y="1409760"/>
            <a:ext cx="446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分数乘法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763640" y="250992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分数乘小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\\192.168.1.3\临时中转站1_以本人姓名建目录\开发中心-多媒体部\02美术部\晨会文件\04宁煌\人教数学教参\01.png"/>
          <p:cNvPicPr/>
          <p:nvPr/>
        </p:nvPicPr>
        <p:blipFill>
          <a:blip r:embed="rId2"/>
          <a:stretch/>
        </p:blipFill>
        <p:spPr>
          <a:xfrm>
            <a:off x="826920" y="146376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072560" y="34290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9800" y="477720"/>
            <a:ext cx="8207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新人教版六年级数学上册全册课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导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1260360" y="1484280"/>
            <a:ext cx="324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直接说出得数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403280" y="4797360"/>
            <a:ext cx="62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问题：直接说出得数，并说说你是怎样想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401840" y="2209680"/>
            <a:ext cx="1147680" cy="778680"/>
            <a:chOff x="1401840" y="2209680"/>
            <a:chExt cx="1147680" cy="778680"/>
          </a:xfrm>
        </p:grpSpPr>
        <p:sp>
          <p:nvSpPr>
            <p:cNvPr id="160" name="Text Box 8"/>
            <p:cNvSpPr/>
            <p:nvPr/>
          </p:nvSpPr>
          <p:spPr>
            <a:xfrm>
              <a:off x="1401840" y="2441520"/>
              <a:ext cx="82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035080" y="2209680"/>
              <a:ext cx="514440" cy="778680"/>
              <a:chOff x="2035080" y="2209680"/>
              <a:chExt cx="514440" cy="778680"/>
            </a:xfrm>
          </p:grpSpPr>
          <p:sp>
            <p:nvSpPr>
              <p:cNvPr id="162" name=""/>
              <p:cNvSpPr/>
              <p:nvPr/>
            </p:nvSpPr>
            <p:spPr>
              <a:xfrm>
                <a:off x="2044440" y="2565360"/>
                <a:ext cx="505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057400" y="220968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035080" y="26287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" name=""/>
          <p:cNvGrpSpPr/>
          <p:nvPr/>
        </p:nvGrpSpPr>
        <p:grpSpPr>
          <a:xfrm>
            <a:off x="3886200" y="2178000"/>
            <a:ext cx="1454040" cy="778680"/>
            <a:chOff x="3886200" y="2178000"/>
            <a:chExt cx="1454040" cy="778680"/>
          </a:xfrm>
        </p:grpSpPr>
        <p:sp>
          <p:nvSpPr>
            <p:cNvPr id="166" name=""/>
            <p:cNvSpPr/>
            <p:nvPr/>
          </p:nvSpPr>
          <p:spPr>
            <a:xfrm>
              <a:off x="4246560" y="239544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3886200" y="2178000"/>
              <a:ext cx="504720" cy="778680"/>
              <a:chOff x="3886200" y="2178000"/>
              <a:chExt cx="504720" cy="778680"/>
            </a:xfrm>
          </p:grpSpPr>
          <p:sp>
            <p:nvSpPr>
              <p:cNvPr id="168" name=""/>
              <p:cNvSpPr/>
              <p:nvPr/>
            </p:nvSpPr>
            <p:spPr>
              <a:xfrm>
                <a:off x="3886200" y="253368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957480" y="217800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935520" y="25970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6048360" y="2205000"/>
            <a:ext cx="1454040" cy="778680"/>
            <a:chOff x="6048360" y="2205000"/>
            <a:chExt cx="1454040" cy="778680"/>
          </a:xfrm>
        </p:grpSpPr>
        <p:sp>
          <p:nvSpPr>
            <p:cNvPr id="172" name=""/>
            <p:cNvSpPr/>
            <p:nvPr/>
          </p:nvSpPr>
          <p:spPr>
            <a:xfrm>
              <a:off x="6408720" y="242244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6048360" y="2205000"/>
              <a:ext cx="504720" cy="778680"/>
              <a:chOff x="6048360" y="2205000"/>
              <a:chExt cx="504720" cy="778680"/>
            </a:xfrm>
          </p:grpSpPr>
          <p:sp>
            <p:nvSpPr>
              <p:cNvPr id="174" name=""/>
              <p:cNvSpPr/>
              <p:nvPr/>
            </p:nvSpPr>
            <p:spPr>
              <a:xfrm>
                <a:off x="6048360" y="256068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119640" y="220500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097680" y="26240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7" name=""/>
          <p:cNvGrpSpPr/>
          <p:nvPr/>
        </p:nvGrpSpPr>
        <p:grpSpPr>
          <a:xfrm>
            <a:off x="1585800" y="3530520"/>
            <a:ext cx="1397160" cy="778680"/>
            <a:chOff x="1585800" y="3530520"/>
            <a:chExt cx="1397160" cy="778680"/>
          </a:xfrm>
        </p:grpSpPr>
        <p:sp>
          <p:nvSpPr>
            <p:cNvPr id="178" name=""/>
            <p:cNvSpPr/>
            <p:nvPr/>
          </p:nvSpPr>
          <p:spPr>
            <a:xfrm>
              <a:off x="1888920" y="3747960"/>
              <a:ext cx="109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85800" y="388620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00200" y="353052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06320" y="394956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933720" y="3540240"/>
            <a:ext cx="1397160" cy="778320"/>
            <a:chOff x="3933720" y="3540240"/>
            <a:chExt cx="1397160" cy="778320"/>
          </a:xfrm>
        </p:grpSpPr>
        <p:sp>
          <p:nvSpPr>
            <p:cNvPr id="183" name=""/>
            <p:cNvSpPr/>
            <p:nvPr/>
          </p:nvSpPr>
          <p:spPr>
            <a:xfrm>
              <a:off x="4236840" y="3757320"/>
              <a:ext cx="109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933720" y="389556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48120" y="354024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54240" y="395892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6173640" y="3573360"/>
            <a:ext cx="1397160" cy="778680"/>
            <a:chOff x="6173640" y="3573360"/>
            <a:chExt cx="1397160" cy="778680"/>
          </a:xfrm>
        </p:grpSpPr>
        <p:sp>
          <p:nvSpPr>
            <p:cNvPr id="188" name=""/>
            <p:cNvSpPr/>
            <p:nvPr/>
          </p:nvSpPr>
          <p:spPr>
            <a:xfrm>
              <a:off x="6476760" y="3790800"/>
              <a:ext cx="109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73640" y="392904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88040" y="357336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94160" y="399240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341440" y="2214720"/>
            <a:ext cx="1093680" cy="768960"/>
            <a:chOff x="2341440" y="2214720"/>
            <a:chExt cx="1093680" cy="768960"/>
          </a:xfrm>
        </p:grpSpPr>
        <p:sp>
          <p:nvSpPr>
            <p:cNvPr id="193" name=""/>
            <p:cNvSpPr/>
            <p:nvPr/>
          </p:nvSpPr>
          <p:spPr>
            <a:xfrm>
              <a:off x="2341440" y="2421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62280" y="256068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55800" y="2214720"/>
              <a:ext cx="679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74880" y="2637000"/>
              <a:ext cx="287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2344680" y="37339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966000" y="37688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643280" y="2165400"/>
            <a:ext cx="1093680" cy="768960"/>
            <a:chOff x="4643280" y="2165400"/>
            <a:chExt cx="1093680" cy="768960"/>
          </a:xfrm>
        </p:grpSpPr>
        <p:sp>
          <p:nvSpPr>
            <p:cNvPr id="200" name=""/>
            <p:cNvSpPr/>
            <p:nvPr/>
          </p:nvSpPr>
          <p:spPr>
            <a:xfrm>
              <a:off x="4643280" y="23716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64120" y="251136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57640" y="2165400"/>
              <a:ext cx="679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76720" y="2587680"/>
              <a:ext cx="287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854760" y="2193840"/>
            <a:ext cx="1093680" cy="768960"/>
            <a:chOff x="6854760" y="2193840"/>
            <a:chExt cx="1093680" cy="768960"/>
          </a:xfrm>
        </p:grpSpPr>
        <p:sp>
          <p:nvSpPr>
            <p:cNvPr id="205" name=""/>
            <p:cNvSpPr/>
            <p:nvPr/>
          </p:nvSpPr>
          <p:spPr>
            <a:xfrm>
              <a:off x="6854760" y="2400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275600" y="253980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69120" y="2193840"/>
              <a:ext cx="679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288200" y="2616120"/>
              <a:ext cx="287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672080" y="3533760"/>
            <a:ext cx="1093680" cy="768960"/>
            <a:chOff x="4672080" y="3533760"/>
            <a:chExt cx="1093680" cy="768960"/>
          </a:xfrm>
        </p:grpSpPr>
        <p:sp>
          <p:nvSpPr>
            <p:cNvPr id="210" name=""/>
            <p:cNvSpPr/>
            <p:nvPr/>
          </p:nvSpPr>
          <p:spPr>
            <a:xfrm>
              <a:off x="4672080" y="37400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92920" y="387972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86440" y="3533760"/>
              <a:ext cx="679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05520" y="3956040"/>
              <a:ext cx="287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663840" y="611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79480" y="6327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二、引入情境，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41400" y="5226120"/>
            <a:ext cx="72673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你知道了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（一）出示信息，明确问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1116000" y="2060640"/>
            <a:ext cx="27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教学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出示信息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1101600" y="2532240"/>
            <a:ext cx="70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松鼠的尾巴长度约占身体的长度的     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1066680" y="4292640"/>
            <a:ext cx="386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松鼠欢欢的尾巴有多长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松鼠乐乐的尾巴有多长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089680" y="2344680"/>
            <a:ext cx="521640" cy="778680"/>
            <a:chOff x="5089680" y="2344680"/>
            <a:chExt cx="521640" cy="778680"/>
          </a:xfrm>
        </p:grpSpPr>
        <p:sp>
          <p:nvSpPr>
            <p:cNvPr id="223" name=""/>
            <p:cNvSpPr/>
            <p:nvPr/>
          </p:nvSpPr>
          <p:spPr>
            <a:xfrm>
              <a:off x="5106960" y="2700360"/>
              <a:ext cx="504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11640" y="2344680"/>
              <a:ext cx="3600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89680" y="2763720"/>
              <a:ext cx="360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266760" y="2852640"/>
            <a:ext cx="3873600" cy="1519200"/>
            <a:chOff x="266760" y="2852640"/>
            <a:chExt cx="3873600" cy="1519200"/>
          </a:xfrm>
        </p:grpSpPr>
        <p:grpSp>
          <p:nvGrpSpPr>
            <p:cNvPr id="227" name=""/>
            <p:cNvGrpSpPr/>
            <p:nvPr/>
          </p:nvGrpSpPr>
          <p:grpSpPr>
            <a:xfrm>
              <a:off x="266760" y="2852640"/>
              <a:ext cx="2089080" cy="1519200"/>
              <a:chOff x="266760" y="2852640"/>
              <a:chExt cx="2089080" cy="1519200"/>
            </a:xfrm>
          </p:grpSpPr>
          <p:pic>
            <p:nvPicPr>
              <p:cNvPr id="22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66760" y="2852640"/>
                <a:ext cx="1241280" cy="144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" name=""/>
              <p:cNvSpPr/>
              <p:nvPr/>
            </p:nvSpPr>
            <p:spPr>
              <a:xfrm>
                <a:off x="1419120" y="4003560"/>
                <a:ext cx="93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欢欢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AutoShape 27"/>
            <p:cNvSpPr/>
            <p:nvPr/>
          </p:nvSpPr>
          <p:spPr>
            <a:xfrm>
              <a:off x="1765440" y="3082680"/>
              <a:ext cx="2374920" cy="505080"/>
            </a:xfrm>
            <a:prstGeom prst="wedgeRoundRectCallout">
              <a:avLst>
                <a:gd name="adj1" fmla="val -55949"/>
                <a:gd name="adj2" fmla="val 4119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我身体长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dm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484520" y="2852640"/>
            <a:ext cx="4056120" cy="1620720"/>
            <a:chOff x="4484520" y="2852640"/>
            <a:chExt cx="4056120" cy="1620720"/>
          </a:xfrm>
        </p:grpSpPr>
        <p:grpSp>
          <p:nvGrpSpPr>
            <p:cNvPr id="232" name=""/>
            <p:cNvGrpSpPr/>
            <p:nvPr/>
          </p:nvGrpSpPr>
          <p:grpSpPr>
            <a:xfrm>
              <a:off x="6588000" y="2852640"/>
              <a:ext cx="1952640" cy="1620720"/>
              <a:chOff x="6588000" y="2852640"/>
              <a:chExt cx="1952640" cy="1620720"/>
            </a:xfrm>
          </p:grpSpPr>
          <p:pic>
            <p:nvPicPr>
              <p:cNvPr id="23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057800" y="2852640"/>
                <a:ext cx="1482840" cy="144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"/>
              <p:cNvSpPr/>
              <p:nvPr/>
            </p:nvSpPr>
            <p:spPr>
              <a:xfrm>
                <a:off x="6588000" y="410508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乐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AutoShape 27"/>
            <p:cNvSpPr/>
            <p:nvPr/>
          </p:nvSpPr>
          <p:spPr>
            <a:xfrm>
              <a:off x="4484520" y="3322440"/>
              <a:ext cx="2374920" cy="505080"/>
            </a:xfrm>
            <a:prstGeom prst="wedgeRoundRectCallout">
              <a:avLst>
                <a:gd name="adj1" fmla="val 55949"/>
                <a:gd name="adj2" fmla="val 4465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我身体长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m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828720" y="5805360"/>
            <a:ext cx="8567640" cy="916560"/>
            <a:chOff x="828720" y="5805360"/>
            <a:chExt cx="8567640" cy="916560"/>
          </a:xfrm>
        </p:grpSpPr>
        <p:sp>
          <p:nvSpPr>
            <p:cNvPr id="237" name="Rectangle 2"/>
            <p:cNvSpPr/>
            <p:nvPr/>
          </p:nvSpPr>
          <p:spPr>
            <a:xfrm>
              <a:off x="828720" y="5805360"/>
              <a:ext cx="85676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52000"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.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要求“松鼠欢欢的尾巴有多长”怎样列式？你是怎样想的？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(</a:t>
              </a:r>
              <a:r>
                <a:rPr b="1" lang="zh-CN" sz="2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求“松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    </a:t>
              </a:r>
              <a:r>
                <a:rPr b="1" lang="zh-CN" sz="2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欢欢的尾巴有多长”列式：</a:t>
              </a:r>
              <a:r>
                <a:rPr b="1" lang="zh-CN" sz="2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2.1</a:t>
              </a:r>
              <a:r>
                <a:rPr b="1" lang="zh-CN" sz="2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×</a:t>
              </a:r>
              <a:r>
                <a:rPr b="1" lang="zh-CN" sz="2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       </a:t>
              </a:r>
              <a:r>
                <a:rPr b="1" lang="zh-CN" sz="2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就是求</a:t>
              </a:r>
              <a:r>
                <a:rPr b="1" lang="zh-CN" sz="2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2.4</a:t>
              </a:r>
              <a:r>
                <a:rPr b="1" lang="zh-CN" sz="2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的        是多少。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4788000" y="5933880"/>
              <a:ext cx="545760" cy="778680"/>
              <a:chOff x="4788000" y="5933880"/>
              <a:chExt cx="545760" cy="778680"/>
            </a:xfrm>
          </p:grpSpPr>
          <p:sp>
            <p:nvSpPr>
              <p:cNvPr id="239" name=""/>
              <p:cNvSpPr/>
              <p:nvPr/>
            </p:nvSpPr>
            <p:spPr>
              <a:xfrm>
                <a:off x="4806360" y="6289560"/>
                <a:ext cx="5274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811040" y="5933880"/>
                <a:ext cx="3765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788000" y="6352920"/>
                <a:ext cx="376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6699240" y="5943600"/>
              <a:ext cx="547560" cy="778320"/>
              <a:chOff x="6699240" y="5943600"/>
              <a:chExt cx="547560" cy="778320"/>
            </a:xfrm>
          </p:grpSpPr>
          <p:sp>
            <p:nvSpPr>
              <p:cNvPr id="243" name=""/>
              <p:cNvSpPr/>
              <p:nvPr/>
            </p:nvSpPr>
            <p:spPr>
              <a:xfrm>
                <a:off x="6717600" y="6298920"/>
                <a:ext cx="5292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722640" y="5943600"/>
                <a:ext cx="3776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699240" y="6362280"/>
                <a:ext cx="37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二、引入情境，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解决问题，提炼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260360" y="2276640"/>
            <a:ext cx="49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怎样计算呢？请你试一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1320840" y="4538520"/>
            <a:ext cx="14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预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2233440" y="453852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2.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0.7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.5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1332000" y="3933720"/>
            <a:ext cx="68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研讨问题：你是怎样想的？（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转成分数进行计算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347840" y="2943360"/>
            <a:ext cx="4006800" cy="783360"/>
            <a:chOff x="1347840" y="2943360"/>
            <a:chExt cx="4006800" cy="783360"/>
          </a:xfrm>
        </p:grpSpPr>
        <p:sp>
          <p:nvSpPr>
            <p:cNvPr id="253" name="Text Box 6"/>
            <p:cNvSpPr/>
            <p:nvPr/>
          </p:nvSpPr>
          <p:spPr>
            <a:xfrm>
              <a:off x="1347840" y="3162600"/>
              <a:ext cx="15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设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2265480" y="2943360"/>
              <a:ext cx="3089160" cy="783360"/>
              <a:chOff x="2265480" y="2943360"/>
              <a:chExt cx="3089160" cy="78336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2265480" y="2943360"/>
                <a:ext cx="2117880" cy="783360"/>
                <a:chOff x="2265480" y="2943360"/>
                <a:chExt cx="2117880" cy="78336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2265480" y="329904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1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291040" y="2943360"/>
                  <a:ext cx="4824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2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336760" y="336240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9" name=""/>
                <p:cNvGrpSpPr/>
                <p:nvPr/>
              </p:nvGrpSpPr>
              <p:grpSpPr>
                <a:xfrm>
                  <a:off x="3144960" y="2943360"/>
                  <a:ext cx="533520" cy="778680"/>
                  <a:chOff x="3144960" y="2943360"/>
                  <a:chExt cx="533520" cy="77868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173400" y="3299040"/>
                    <a:ext cx="50508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157560" y="2943360"/>
                    <a:ext cx="3603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144960" y="336240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2678400" y="316404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×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500640" y="314964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3878280" y="3303720"/>
                  <a:ext cx="50508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4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884760" y="2948040"/>
                  <a:ext cx="4824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930840" y="336708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8" name=""/>
              <p:cNvSpPr/>
              <p:nvPr/>
            </p:nvSpPr>
            <p:spPr>
              <a:xfrm>
                <a:off x="4202280" y="3159360"/>
                <a:ext cx="115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dm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9" name=""/>
          <p:cNvGrpSpPr/>
          <p:nvPr/>
        </p:nvGrpSpPr>
        <p:grpSpPr>
          <a:xfrm>
            <a:off x="1341360" y="4884840"/>
            <a:ext cx="6840360" cy="778320"/>
            <a:chOff x="1341360" y="4884840"/>
            <a:chExt cx="6840360" cy="778320"/>
          </a:xfrm>
        </p:grpSpPr>
        <p:sp>
          <p:nvSpPr>
            <p:cNvPr id="270" name="Text Box 19"/>
            <p:cNvSpPr/>
            <p:nvPr/>
          </p:nvSpPr>
          <p:spPr>
            <a:xfrm>
              <a:off x="1341360" y="5086080"/>
              <a:ext cx="684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研讨问题：你是怎样想的？（把       转成小数进行计算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5095800" y="4884840"/>
              <a:ext cx="522360" cy="778320"/>
              <a:chOff x="5095800" y="4884840"/>
              <a:chExt cx="522360" cy="778320"/>
            </a:xfrm>
          </p:grpSpPr>
          <p:sp>
            <p:nvSpPr>
              <p:cNvPr id="272" name=""/>
              <p:cNvSpPr/>
              <p:nvPr/>
            </p:nvSpPr>
            <p:spPr>
              <a:xfrm>
                <a:off x="5113440" y="524016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118120" y="48848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095800" y="53035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5" name=""/>
          <p:cNvSpPr/>
          <p:nvPr/>
        </p:nvSpPr>
        <p:spPr>
          <a:xfrm>
            <a:off x="663840" y="611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引入情境，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7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解决问题，提炼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1260360" y="2205000"/>
            <a:ext cx="59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703440" y="3032280"/>
            <a:ext cx="49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怎样计算呢？请你试一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5"/>
          <p:cNvSpPr/>
          <p:nvPr/>
        </p:nvSpPr>
        <p:spPr>
          <a:xfrm>
            <a:off x="934920" y="4398840"/>
            <a:ext cx="148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预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1865160" y="438948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4×0.7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7"/>
          <p:cNvSpPr/>
          <p:nvPr/>
        </p:nvSpPr>
        <p:spPr>
          <a:xfrm>
            <a:off x="958680" y="502596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预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9"/>
          <p:cNvSpPr/>
          <p:nvPr/>
        </p:nvSpPr>
        <p:spPr>
          <a:xfrm>
            <a:off x="3433680" y="5018040"/>
            <a:ext cx="65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观察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种做法，你喜欢哪一种？说说你的想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704880" y="2205000"/>
            <a:ext cx="8184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要求“松鼠乐乐的尾巴有多长”怎样列式？你是怎样想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000" spc="-1" strike="noStrike">
                <a:solidFill>
                  <a:srgbClr val="1c1c1c"/>
                </a:solidFill>
                <a:latin typeface="宋体"/>
                <a:ea typeface="宋体"/>
              </a:rPr>
              <a:t>求“松鼠乐乐的尾巴有多长”列式：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2.4</a:t>
            </a:r>
            <a:r>
              <a:rPr b="1" lang="zh-CN" sz="20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×</a:t>
            </a:r>
            <a:r>
              <a:rPr b="1" lang="zh-CN" sz="2000" spc="-1" strike="noStrike">
                <a:solidFill>
                  <a:srgbClr val="1c1c1c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1c1c1c"/>
                </a:solidFill>
                <a:latin typeface="宋体"/>
                <a:ea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6145200" y="2340000"/>
            <a:ext cx="522360" cy="778680"/>
            <a:chOff x="6145200" y="2340000"/>
            <a:chExt cx="522360" cy="778680"/>
          </a:xfrm>
        </p:grpSpPr>
        <p:sp>
          <p:nvSpPr>
            <p:cNvPr id="286" name=""/>
            <p:cNvSpPr/>
            <p:nvPr/>
          </p:nvSpPr>
          <p:spPr>
            <a:xfrm>
              <a:off x="6162840" y="269568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67520" y="234000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45200" y="275904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Text Box 6"/>
          <p:cNvSpPr/>
          <p:nvPr/>
        </p:nvSpPr>
        <p:spPr>
          <a:xfrm>
            <a:off x="938160" y="36212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预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855800" y="3409920"/>
            <a:ext cx="3089160" cy="783360"/>
            <a:chOff x="1855800" y="3409920"/>
            <a:chExt cx="3089160" cy="783360"/>
          </a:xfrm>
        </p:grpSpPr>
        <p:sp>
          <p:nvSpPr>
            <p:cNvPr id="291" name=""/>
            <p:cNvSpPr/>
            <p:nvPr/>
          </p:nvSpPr>
          <p:spPr>
            <a:xfrm>
              <a:off x="1855800" y="376560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881360" y="3409920"/>
              <a:ext cx="482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27080" y="382896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2735280" y="3409920"/>
              <a:ext cx="533520" cy="778680"/>
              <a:chOff x="2735280" y="3409920"/>
              <a:chExt cx="533520" cy="778680"/>
            </a:xfrm>
          </p:grpSpPr>
          <p:sp>
            <p:nvSpPr>
              <p:cNvPr id="295" name=""/>
              <p:cNvSpPr/>
              <p:nvPr/>
            </p:nvSpPr>
            <p:spPr>
              <a:xfrm>
                <a:off x="2763720" y="3765600"/>
                <a:ext cx="505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747880" y="340992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735280" y="38289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2268720" y="36306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090960" y="36162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06760" y="377028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13240" y="3414600"/>
              <a:ext cx="482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502080" y="383364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92600" y="3625920"/>
              <a:ext cx="11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m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688760" y="4819680"/>
            <a:ext cx="1555560" cy="1855800"/>
            <a:chOff x="1688760" y="4819680"/>
            <a:chExt cx="1555560" cy="1855800"/>
          </a:xfrm>
        </p:grpSpPr>
        <p:grpSp>
          <p:nvGrpSpPr>
            <p:cNvPr id="305" name=""/>
            <p:cNvGrpSpPr/>
            <p:nvPr/>
          </p:nvGrpSpPr>
          <p:grpSpPr>
            <a:xfrm>
              <a:off x="1688760" y="4819680"/>
              <a:ext cx="1546200" cy="1628640"/>
              <a:chOff x="1688760" y="4819680"/>
              <a:chExt cx="1546200" cy="1628640"/>
            </a:xfrm>
          </p:grpSpPr>
          <p:sp>
            <p:nvSpPr>
              <p:cNvPr id="306" name="Text Box 16"/>
              <p:cNvSpPr/>
              <p:nvPr/>
            </p:nvSpPr>
            <p:spPr>
              <a:xfrm>
                <a:off x="1966680" y="5041800"/>
                <a:ext cx="79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.4×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7" name=""/>
              <p:cNvGrpSpPr/>
              <p:nvPr/>
            </p:nvGrpSpPr>
            <p:grpSpPr>
              <a:xfrm>
                <a:off x="2711160" y="4819680"/>
                <a:ext cx="522360" cy="778680"/>
                <a:chOff x="2711160" y="4819680"/>
                <a:chExt cx="522360" cy="77868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2728800" y="517536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2733480" y="481968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711160" y="523872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>
                <a:off x="1688760" y="5686560"/>
                <a:ext cx="122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.4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2" name=""/>
              <p:cNvGrpSpPr/>
              <p:nvPr/>
            </p:nvGrpSpPr>
            <p:grpSpPr>
              <a:xfrm>
                <a:off x="2712600" y="5456160"/>
                <a:ext cx="522360" cy="778680"/>
                <a:chOff x="2712600" y="5456160"/>
                <a:chExt cx="522360" cy="77868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730240" y="581184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734920" y="545616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712600" y="587520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6" name=""/>
              <p:cNvSpPr/>
              <p:nvPr/>
            </p:nvSpPr>
            <p:spPr>
              <a:xfrm>
                <a:off x="2030040" y="5773680"/>
                <a:ext cx="432000" cy="21600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942920" y="542304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.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725560" y="6080040"/>
                <a:ext cx="43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734920" y="5996160"/>
                <a:ext cx="287280" cy="14436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1798920" y="6307200"/>
              <a:ext cx="144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663840" y="611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引入情境，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解决问题，提炼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774720" y="2095560"/>
            <a:ext cx="69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观察上面两道题的计算方法与整数乘法有着怎样的联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怎样计算小数乘分数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712800" y="3575160"/>
            <a:ext cx="71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小结：小数乘分数与整数乘分数的计算方法相同，能约分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先约分，使计算更简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63840" y="611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三、巩固练习 提高认识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1144440" y="1655640"/>
            <a:ext cx="17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做一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359000" y="2349360"/>
            <a:ext cx="1352520" cy="778680"/>
            <a:chOff x="1359000" y="2349360"/>
            <a:chExt cx="1352520" cy="778680"/>
          </a:xfrm>
        </p:grpSpPr>
        <p:sp>
          <p:nvSpPr>
            <p:cNvPr id="330" name="Text Box 8"/>
            <p:cNvSpPr/>
            <p:nvPr/>
          </p:nvSpPr>
          <p:spPr>
            <a:xfrm>
              <a:off x="1359000" y="258588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.2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2178000" y="2349360"/>
              <a:ext cx="533520" cy="778680"/>
              <a:chOff x="2178000" y="2349360"/>
              <a:chExt cx="533520" cy="778680"/>
            </a:xfrm>
          </p:grpSpPr>
          <p:sp>
            <p:nvSpPr>
              <p:cNvPr id="332" name=""/>
              <p:cNvSpPr/>
              <p:nvPr/>
            </p:nvSpPr>
            <p:spPr>
              <a:xfrm>
                <a:off x="2206440" y="2705040"/>
                <a:ext cx="505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190600" y="234936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178000" y="27684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5" name=""/>
          <p:cNvGrpSpPr/>
          <p:nvPr/>
        </p:nvGrpSpPr>
        <p:grpSpPr>
          <a:xfrm>
            <a:off x="3848040" y="2349360"/>
            <a:ext cx="1352520" cy="778680"/>
            <a:chOff x="3848040" y="2349360"/>
            <a:chExt cx="1352520" cy="778680"/>
          </a:xfrm>
        </p:grpSpPr>
        <p:sp>
          <p:nvSpPr>
            <p:cNvPr id="336" name="Text Box 8"/>
            <p:cNvSpPr/>
            <p:nvPr/>
          </p:nvSpPr>
          <p:spPr>
            <a:xfrm>
              <a:off x="3848040" y="258588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.5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4667040" y="2349360"/>
              <a:ext cx="533520" cy="778680"/>
              <a:chOff x="4667040" y="2349360"/>
              <a:chExt cx="533520" cy="778680"/>
            </a:xfrm>
          </p:grpSpPr>
          <p:sp>
            <p:nvSpPr>
              <p:cNvPr id="338" name=""/>
              <p:cNvSpPr/>
              <p:nvPr/>
            </p:nvSpPr>
            <p:spPr>
              <a:xfrm>
                <a:off x="4695480" y="2705040"/>
                <a:ext cx="505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679640" y="234936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667040" y="27684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1" name=""/>
          <p:cNvGrpSpPr/>
          <p:nvPr/>
        </p:nvGrpSpPr>
        <p:grpSpPr>
          <a:xfrm>
            <a:off x="6248520" y="2311560"/>
            <a:ext cx="1352520" cy="778320"/>
            <a:chOff x="6248520" y="2311560"/>
            <a:chExt cx="1352520" cy="778320"/>
          </a:xfrm>
        </p:grpSpPr>
        <p:sp>
          <p:nvSpPr>
            <p:cNvPr id="342" name="Text Box 8"/>
            <p:cNvSpPr/>
            <p:nvPr/>
          </p:nvSpPr>
          <p:spPr>
            <a:xfrm>
              <a:off x="6248520" y="254772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.4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7067520" y="2311560"/>
              <a:ext cx="533520" cy="778320"/>
              <a:chOff x="7067520" y="2311560"/>
              <a:chExt cx="533520" cy="778320"/>
            </a:xfrm>
          </p:grpSpPr>
          <p:sp>
            <p:nvSpPr>
              <p:cNvPr id="344" name=""/>
              <p:cNvSpPr/>
              <p:nvPr/>
            </p:nvSpPr>
            <p:spPr>
              <a:xfrm>
                <a:off x="7095960" y="2666880"/>
                <a:ext cx="505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080120" y="231156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067520" y="27302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7" name=""/>
          <p:cNvGrpSpPr/>
          <p:nvPr/>
        </p:nvGrpSpPr>
        <p:grpSpPr>
          <a:xfrm>
            <a:off x="1436760" y="3716280"/>
            <a:ext cx="1352520" cy="778680"/>
            <a:chOff x="1436760" y="3716280"/>
            <a:chExt cx="1352520" cy="778680"/>
          </a:xfrm>
        </p:grpSpPr>
        <p:sp>
          <p:nvSpPr>
            <p:cNvPr id="348" name="Text Box 8"/>
            <p:cNvSpPr/>
            <p:nvPr/>
          </p:nvSpPr>
          <p:spPr>
            <a:xfrm>
              <a:off x="1436760" y="395280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.4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2255760" y="3716280"/>
              <a:ext cx="533520" cy="778680"/>
              <a:chOff x="2255760" y="3716280"/>
              <a:chExt cx="533520" cy="778680"/>
            </a:xfrm>
          </p:grpSpPr>
          <p:sp>
            <p:nvSpPr>
              <p:cNvPr id="350" name=""/>
              <p:cNvSpPr/>
              <p:nvPr/>
            </p:nvSpPr>
            <p:spPr>
              <a:xfrm>
                <a:off x="2284200" y="4071960"/>
                <a:ext cx="505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268360" y="371628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255760" y="41353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3" name=""/>
          <p:cNvGrpSpPr/>
          <p:nvPr/>
        </p:nvGrpSpPr>
        <p:grpSpPr>
          <a:xfrm>
            <a:off x="3882960" y="3716280"/>
            <a:ext cx="1352520" cy="778680"/>
            <a:chOff x="3882960" y="3716280"/>
            <a:chExt cx="1352520" cy="778680"/>
          </a:xfrm>
        </p:grpSpPr>
        <p:sp>
          <p:nvSpPr>
            <p:cNvPr id="354" name="Text Box 8"/>
            <p:cNvSpPr/>
            <p:nvPr/>
          </p:nvSpPr>
          <p:spPr>
            <a:xfrm>
              <a:off x="3882960" y="395280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0.8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4701960" y="3716280"/>
              <a:ext cx="533520" cy="778680"/>
              <a:chOff x="4701960" y="3716280"/>
              <a:chExt cx="533520" cy="778680"/>
            </a:xfrm>
          </p:grpSpPr>
          <p:sp>
            <p:nvSpPr>
              <p:cNvPr id="356" name=""/>
              <p:cNvSpPr/>
              <p:nvPr/>
            </p:nvSpPr>
            <p:spPr>
              <a:xfrm>
                <a:off x="4730400" y="4071960"/>
                <a:ext cx="505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714560" y="371628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701960" y="41353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9" name=""/>
          <p:cNvGrpSpPr/>
          <p:nvPr/>
        </p:nvGrpSpPr>
        <p:grpSpPr>
          <a:xfrm>
            <a:off x="6365880" y="3695760"/>
            <a:ext cx="1365120" cy="778680"/>
            <a:chOff x="6365880" y="3695760"/>
            <a:chExt cx="1365120" cy="778680"/>
          </a:xfrm>
        </p:grpSpPr>
        <p:sp>
          <p:nvSpPr>
            <p:cNvPr id="360" name="Text Box 8"/>
            <p:cNvSpPr/>
            <p:nvPr/>
          </p:nvSpPr>
          <p:spPr>
            <a:xfrm>
              <a:off x="6723000" y="391176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× 3.2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6365880" y="3695760"/>
              <a:ext cx="533520" cy="778680"/>
              <a:chOff x="6365880" y="3695760"/>
              <a:chExt cx="533520" cy="778680"/>
            </a:xfrm>
          </p:grpSpPr>
          <p:sp>
            <p:nvSpPr>
              <p:cNvPr id="362" name=""/>
              <p:cNvSpPr/>
              <p:nvPr/>
            </p:nvSpPr>
            <p:spPr>
              <a:xfrm>
                <a:off x="6394320" y="4051440"/>
                <a:ext cx="505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378480" y="369576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365880" y="41148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5" name=""/>
          <p:cNvSpPr/>
          <p:nvPr/>
        </p:nvSpPr>
        <p:spPr>
          <a:xfrm>
            <a:off x="2544840" y="3933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511360" y="2338560"/>
            <a:ext cx="1093680" cy="768960"/>
            <a:chOff x="2511360" y="2338560"/>
            <a:chExt cx="1093680" cy="768960"/>
          </a:xfrm>
        </p:grpSpPr>
        <p:sp>
          <p:nvSpPr>
            <p:cNvPr id="367" name=""/>
            <p:cNvSpPr/>
            <p:nvPr/>
          </p:nvSpPr>
          <p:spPr>
            <a:xfrm>
              <a:off x="2511360" y="25448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932200" y="268452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925720" y="2338560"/>
              <a:ext cx="679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944800" y="2760840"/>
              <a:ext cx="287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4962600" y="2349360"/>
            <a:ext cx="1093680" cy="768960"/>
            <a:chOff x="4962600" y="2349360"/>
            <a:chExt cx="1093680" cy="768960"/>
          </a:xfrm>
        </p:grpSpPr>
        <p:sp>
          <p:nvSpPr>
            <p:cNvPr id="372" name=""/>
            <p:cNvSpPr/>
            <p:nvPr/>
          </p:nvSpPr>
          <p:spPr>
            <a:xfrm>
              <a:off x="4962600" y="2555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83440" y="269532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76960" y="2349360"/>
              <a:ext cx="679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396040" y="2771640"/>
              <a:ext cx="287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7346880" y="2305080"/>
            <a:ext cx="1093680" cy="768960"/>
            <a:chOff x="7346880" y="2305080"/>
            <a:chExt cx="1093680" cy="768960"/>
          </a:xfrm>
        </p:grpSpPr>
        <p:sp>
          <p:nvSpPr>
            <p:cNvPr id="377" name=""/>
            <p:cNvSpPr/>
            <p:nvPr/>
          </p:nvSpPr>
          <p:spPr>
            <a:xfrm>
              <a:off x="7346880" y="2511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767720" y="265104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761240" y="2305080"/>
              <a:ext cx="679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780320" y="2727360"/>
              <a:ext cx="287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4981680" y="3705120"/>
            <a:ext cx="1093680" cy="768960"/>
            <a:chOff x="4981680" y="3705120"/>
            <a:chExt cx="1093680" cy="768960"/>
          </a:xfrm>
        </p:grpSpPr>
        <p:sp>
          <p:nvSpPr>
            <p:cNvPr id="382" name=""/>
            <p:cNvSpPr/>
            <p:nvPr/>
          </p:nvSpPr>
          <p:spPr>
            <a:xfrm>
              <a:off x="4981680" y="39114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402520" y="405108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396040" y="3705120"/>
              <a:ext cx="679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15120" y="4127400"/>
              <a:ext cx="287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7402680" y="3700440"/>
            <a:ext cx="1093680" cy="768960"/>
            <a:chOff x="7402680" y="3700440"/>
            <a:chExt cx="1093680" cy="768960"/>
          </a:xfrm>
        </p:grpSpPr>
        <p:sp>
          <p:nvSpPr>
            <p:cNvPr id="387" name=""/>
            <p:cNvSpPr/>
            <p:nvPr/>
          </p:nvSpPr>
          <p:spPr>
            <a:xfrm>
              <a:off x="7402680" y="3906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823520" y="404640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817040" y="3700440"/>
              <a:ext cx="679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836120" y="4122720"/>
              <a:ext cx="287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663840" y="611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四、布置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1104840" y="2362320"/>
            <a:ext cx="8039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业：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练习二，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、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、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63840" y="611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8-09-07T03:28:4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